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EAF-ABDA-4FCB-A1DF-6C4113C4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2FF-A818-4437-8AC8-7260A03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F74-82ED-4E27-BBED-2300F99A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4CC-E812-4729-983E-13ED316E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D4CC-D64C-49C5-9AD7-F7D578C2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5470-6981-426C-93DF-87514D66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DD8-DE58-4B88-8FF5-5C69768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07C7-F550-46F4-AF59-3516D56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2B0-17A4-4E5C-8C15-D3DFE19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55AC-1BFB-4377-89D4-B27C8648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D57B-5DA3-45D1-8805-A98F1E6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ABE-465E-4767-B29F-B716456C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1156-AFBB-43BC-B2CD-D325593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24CB-1E2A-4473-86EC-A4D71C2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429C-CA2F-4317-98D5-3687801E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7734-42ED-441B-881E-E602EC50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005C-E5EB-4DDC-9871-AECB5A5E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DFA-CD76-4487-8A5F-8AF7FEF6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3FA-0A2B-484F-8342-DD9962F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908-6AF9-4318-A8CC-904D318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1CB-B098-41AD-86C6-CFFB4D0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C5B-DF04-47E8-86E2-50E1A68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C0C-6AC0-4D82-BD8B-F6EA6B8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2FC-0717-4DE2-A72B-F7181DC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D57F-7E85-46CC-A06E-687AD1E77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1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16520" indent="-14616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16520" indent="-146160" algn="ctr">
              <a:spcBef>
                <a:spcPts val="100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835B-B071-43BD-9388-EC27342FEE5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Clipart/Chemistry&amp;img=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lpi.com/msds/ref/gifs/statesofmatter.gif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tances, Compounds &amp; Mix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0" y="243828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How everything is put togeth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 Review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ure compound has the same elements and the same amount of elements all of the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s are chemically comb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und properties are different from the properties of the el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not be separated phys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properties such as boiling point or melting point of pure substances do not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66720" y="24382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ixture is a combination of two or more substances where there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mical combination or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http://www.chem4kids.com/files/art/matter_mixture1_2.jpg"/>
          <p:cNvPicPr/>
          <p:nvPr/>
        </p:nvPicPr>
        <p:blipFill>
          <a:blip r:embed="rId1"/>
          <a:stretch/>
        </p:blipFill>
        <p:spPr>
          <a:xfrm>
            <a:off x="457200" y="2362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xtures combine physically in no specific proportion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y just mix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3" descr="C:\Documents and Settings\gbaker\Application Data\Microsoft\Media Catalog\Downloaded Clips\cla2\j0406479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1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lids, liquids and gases can be combined to create a mixture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3" descr="C:\Documents and Settings\gbaker\Application Data\Microsoft\Media Catalog\Downloaded Clips\cla3\j0407930.wmf"/>
          <p:cNvPicPr/>
          <p:nvPr/>
        </p:nvPicPr>
        <p:blipFill>
          <a:blip r:embed="rId1"/>
          <a:stretch/>
        </p:blipFill>
        <p:spPr>
          <a:xfrm>
            <a:off x="5715000" y="2819520"/>
            <a:ext cx="27558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xture Typ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neva"/>
              </a:rPr>
              <a:t>MIXTURES MAY BE </a:t>
            </a: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HOMOGENEOUS</a:t>
            </a:r>
            <a:r>
              <a:rPr b="1" lang="en-US" sz="4000" spc="-1" strike="noStrike">
                <a:solidFill>
                  <a:srgbClr val="0000ff"/>
                </a:solidFill>
                <a:latin typeface="Geneva"/>
              </a:rPr>
              <a:t> OR </a:t>
            </a: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HETEROGENE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mogeneous 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neva"/>
              </a:rPr>
              <a:t>Homogeneous Mix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The prefix: "homo"- indicates the sa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Have the same uniform appearance and composition through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neva"/>
              </a:rPr>
              <a:t>EX.  A pile of pennies, iced tea with sugar (sugar has dissolve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nev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re homogeneous mix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 solution is a mixture of two or more substa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t least two substances must be mixed in order to have a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solution has two par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The substance in the smallest amount and the one that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DISSOLVES</a:t>
            </a: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 is called the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SOL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67080" y="1752480"/>
            <a:ext cx="4572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The substance in the larger amount is called the </a:t>
            </a:r>
            <a:r>
              <a:rPr b="1" lang="en-US" sz="3200" spc="-1" strike="noStrike">
                <a:solidFill>
                  <a:srgbClr val="ff0000"/>
                </a:solidFill>
                <a:latin typeface="Geneva"/>
              </a:rPr>
              <a:t>SOLVENT</a:t>
            </a: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 - it does the dissolving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neva"/>
              </a:rPr>
              <a:t>IN most common instances water is the solvent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0" y="2720880"/>
            <a:ext cx="9144000" cy="1403280"/>
            <a:chOff x="0" y="2720880"/>
            <a:chExt cx="9144000" cy="1403280"/>
          </a:xfrm>
        </p:grpSpPr>
        <p:sp>
          <p:nvSpPr>
            <p:cNvPr id="137" name="Rectangle 9"/>
            <p:cNvSpPr/>
            <p:nvPr/>
          </p:nvSpPr>
          <p:spPr>
            <a:xfrm>
              <a:off x="0" y="2720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0" y="2720880"/>
              <a:ext cx="91440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66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3366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6666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39" name="Picture 11" descr="pileofsugar"/>
          <p:cNvPicPr/>
          <p:nvPr/>
        </p:nvPicPr>
        <p:blipFill>
          <a:blip r:embed="rId1"/>
          <a:stretch/>
        </p:blipFill>
        <p:spPr>
          <a:xfrm>
            <a:off x="762120" y="5029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:\Documents and Settings\gbaker\Application Data\Microsoft\Media Catalog\Downloaded Clips\cl0\fd00942_.wmf"/>
          <p:cNvPicPr/>
          <p:nvPr/>
        </p:nvPicPr>
        <p:blipFill>
          <a:blip r:embed="rId2"/>
          <a:stretch/>
        </p:blipFill>
        <p:spPr>
          <a:xfrm rot="19992000">
            <a:off x="7696080" y="4800600"/>
            <a:ext cx="817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s of solu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2971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ne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C:\Documents and Settings\gbaker\Application Data\Microsoft\Media Catalog\Downloaded Clips\cla2\j0406452.jpg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Matter that has the same composition and properties throughout is called a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ubstance</a:t>
            </a: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Times New Roman"/>
              </a:rPr>
              <a:t>When different elements combine, other substances are form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Documents and Settings\gbaker\Application Data\Microsoft\Media Catalog\Downloaded Clips\cla1\j0402696.jpg"/>
          <p:cNvPicPr/>
          <p:nvPr/>
        </p:nvPicPr>
        <p:blipFill>
          <a:blip r:embed="rId1"/>
          <a:stretch/>
        </p:blipFill>
        <p:spPr>
          <a:xfrm>
            <a:off x="512640" y="2666880"/>
            <a:ext cx="3392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eneva"/>
              </a:rPr>
              <a:t>Heterogeneous Mixtures</a:t>
            </a:r>
            <a:r>
              <a:rPr b="0" lang="en-US" sz="4400" spc="-1" strike="noStrike">
                <a:solidFill>
                  <a:srgbClr val="0000ff"/>
                </a:solidFill>
                <a:latin typeface="Gene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The prefix: "hetero"- indicates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A heterogeneous mixture consists of visibly different substances or ph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neva"/>
              </a:rPr>
              <a:t>Two or more parts can be s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39621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ile of co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x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C:\Documents and Settings\gbaker\Application Data\Microsoft\Media Catalog\Downloaded Clips\cl56\j0215791.wmf"/>
          <p:cNvPicPr/>
          <p:nvPr/>
        </p:nvPicPr>
        <p:blipFill>
          <a:blip r:embed="rId1"/>
          <a:stretch/>
        </p:blipFill>
        <p:spPr>
          <a:xfrm>
            <a:off x="4114800" y="2514600"/>
            <a:ext cx="42130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w Can We Change Matter Into New Substanc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Chemical reaction (also known as a chemical change) is a change in a substance or substances that results in a totally new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Ex:  2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(g) + O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(g) </a:t>
            </a:r>
            <a:r>
              <a:rPr b="0" lang="en-US" sz="3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Notice that the reactants (the substances you start with) combine to form a new substance (the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w Do I Know If A Chemical Reaction Has Occurr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560" y="190512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here are 5 indicators of a chemical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Col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olution of a 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ecipitate:  an insoluble substance that is produced as result of a chemical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24-07-07_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514600"/>
            <a:ext cx="1298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Why Do Chemical Reactions Occu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2285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Chemical reactions occur to produce a more stable product than the existing reac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235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A chemical equation tells you the substances you start with in a reaction and the substances you get at 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substances at the beginning are called the Reac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When the reaction is complete, you have new substances call th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number of reactants and products can v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Reactant + Reactant          Product +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Reactant  +  Reactant    yields    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+   H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Ammonia + Hydrogen Chloride  yie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               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Ammonium Chlo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Straight Arrow Connector 5"/>
          <p:cNvCxnSpPr/>
          <p:nvPr/>
        </p:nvCxnSpPr>
        <p:spPr>
          <a:xfrm>
            <a:off x="4267080" y="2057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6"/>
          <p:cNvCxnSpPr/>
          <p:nvPr/>
        </p:nvCxnSpPr>
        <p:spPr>
          <a:xfrm>
            <a:off x="4572000" y="3886200"/>
            <a:ext cx="1448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Structure of a Chemical Eq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Reactant          Product +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Reactant    yields     Product + 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O  + 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Calcium Carbonate (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heated Limestone- 1,517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) yields  Calcium Oxide   + Carbon Di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Straight Arrow Connector 5"/>
          <p:cNvCxnSpPr/>
          <p:nvPr/>
        </p:nvCxnSpPr>
        <p:spPr>
          <a:xfrm>
            <a:off x="3352680" y="2057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6"/>
          <p:cNvCxnSpPr/>
          <p:nvPr/>
        </p:nvCxnSpPr>
        <p:spPr>
          <a:xfrm>
            <a:off x="3200400" y="3886200"/>
            <a:ext cx="1448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Verdana"/>
              </a:rPr>
              <a:t>Where Does The Matter Go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It is important to understand that when matter undergoes a chemical reaction (ie a chemical change) it does not disappear or app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e atoms are rearranged and form new bonds, but no matter is lost nor g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This is called the Law of Conservation of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 vs Mixtur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990720" y="2590920"/>
            <a:ext cx="3504960" cy="32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5105520" y="2590920"/>
            <a:ext cx="3504960" cy="32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678680" y="20574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021360" y="1828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600200" y="2895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chemically forming molecu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715000" y="2819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chemically combine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21932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in set proporti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7150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mbine in any propor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523880" y="441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d chemicall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71500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d physicall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only one part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exist in 3 states of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be elements or com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ttp://www.ilpi.com/msds/ref/gifs/statesofmatter.gif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31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3520" y="5181480"/>
            <a:ext cx="350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ilpi.com/msds/ref/gifs/statesofmatter.gif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276720" y="685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lassifying Matt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743200" y="1600200"/>
            <a:ext cx="3200400" cy="368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att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2590920"/>
            <a:ext cx="2666880" cy="368280"/>
          </a:xfrm>
          <a:prstGeom prst="rect">
            <a:avLst/>
          </a:prstGeom>
          <a:noFill/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410080" y="2590920"/>
            <a:ext cx="2743200" cy="368280"/>
          </a:xfrm>
          <a:prstGeom prst="rect">
            <a:avLst/>
          </a:prstGeom>
          <a:noFill/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80880" y="3581280"/>
            <a:ext cx="1676520" cy="4291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209680" y="3581280"/>
            <a:ext cx="1905120" cy="4291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Compound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343400" y="3581280"/>
            <a:ext cx="2362320" cy="39888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omogeneou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6781680" y="3581280"/>
            <a:ext cx="2362320" cy="39888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eterogeneou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09480" y="4648320"/>
            <a:ext cx="685800" cy="785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F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666880" y="4648320"/>
            <a:ext cx="914400" cy="86040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te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6781680" y="4648320"/>
            <a:ext cx="1981440" cy="1008720"/>
          </a:xfrm>
          <a:prstGeom prst="rect">
            <a:avLst/>
          </a:prstGeom>
          <a:noFill/>
          <a:ln cap="sq"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Rocky Road ice cream, muddy water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 flipH="1">
            <a:off x="2819520" y="2057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5257800" y="2057400"/>
            <a:ext cx="76212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H="1">
            <a:off x="1066680" y="3200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2666880" y="3124080"/>
            <a:ext cx="45720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7391520" y="2971800"/>
            <a:ext cx="380880" cy="5335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7818480" y="4038480"/>
            <a:ext cx="46080" cy="60984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2971800" y="4114800"/>
            <a:ext cx="380880" cy="45720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914040" y="4114800"/>
            <a:ext cx="304920" cy="38088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029200" y="4191120"/>
            <a:ext cx="457200" cy="30456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5486400" y="3200400"/>
            <a:ext cx="457200" cy="304920"/>
          </a:xfrm>
          <a:prstGeom prst="line">
            <a:avLst/>
          </a:prstGeom>
          <a:ln cap="sq"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Pure Substan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5800" y="213372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re substance is a classification of matter that includes both elements and compound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substances cannot be separated by physical means such as distillation, filtration, or chromatograph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2160" y="19047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of molecules and molecules are the smallest particle of a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properties that are different from the elements that make them 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s made up of 2 or more atoms chemically bond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Water, salt,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im48"/>
          <p:cNvPicPr/>
          <p:nvPr/>
        </p:nvPicPr>
        <p:blipFill>
          <a:blip r:embed="rId1"/>
          <a:stretch/>
        </p:blipFill>
        <p:spPr>
          <a:xfrm>
            <a:off x="685800" y="380880"/>
            <a:ext cx="3008160" cy="3353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09480" y="388620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tance whose smallest unit is made up of atoms of more than one pure element bonded together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1640" y="190512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O is the chemical formula for water, and H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33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 is the formula for hydrogen perox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The formula tells you which elements make up a compound as well as how many atoms of each element are pres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unds Have Formu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im49"/>
          <p:cNvPicPr/>
          <p:nvPr/>
        </p:nvPicPr>
        <p:blipFill>
          <a:blip r:embed="rId1"/>
          <a:stretch/>
        </p:blipFill>
        <p:spPr>
          <a:xfrm>
            <a:off x="609480" y="2743200"/>
            <a:ext cx="3886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to read a formul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im50"/>
          <p:cNvPicPr/>
          <p:nvPr/>
        </p:nvPicPr>
        <p:blipFill>
          <a:blip r:embed="rId1"/>
          <a:stretch/>
        </p:blipFill>
        <p:spPr>
          <a:xfrm>
            <a:off x="1143000" y="3962520"/>
            <a:ext cx="232560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685800" y="1828800"/>
            <a:ext cx="30481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6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6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 flipV="1">
            <a:off x="2438280" y="2819160"/>
            <a:ext cx="1447920" cy="685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886200" y="2819520"/>
            <a:ext cx="50292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This is a subscript. It tells us how many atoms of that element exist in one unit of that compound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Water is made of 2 H atoms and 1 O atom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Verdana"/>
              </a:rPr>
              <a:t>No subscript is used when only one atom of an element is present.</a:t>
            </a: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Carbon, Hydrogen, Oxy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Carbon atoms + 22 Hydrogen atoms + 12 Oxygen atoms = 1 molecule of su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Straight Arrow Connector 4"/>
          <p:cNvCxnSpPr/>
          <p:nvPr/>
        </p:nvCxnSpPr>
        <p:spPr>
          <a:xfrm>
            <a:off x="1752120" y="2209320"/>
            <a:ext cx="762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Hydrogen, Oxy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dium, Chlor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a         C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         Hydrogen,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040" y="3657600"/>
            <a:ext cx="762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6"/>
          <p:cNvCxnSpPr/>
          <p:nvPr/>
        </p:nvCxnSpPr>
        <p:spPr>
          <a:xfrm>
            <a:off x="4343040" y="5105520"/>
            <a:ext cx="762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7"/>
          <p:cNvCxnSpPr/>
          <p:nvPr/>
        </p:nvCxnSpPr>
        <p:spPr>
          <a:xfrm>
            <a:off x="2133720" y="2209320"/>
            <a:ext cx="762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4:25:35Z</dcterms:created>
  <dc:creator>Casa Grande</dc:creator>
  <dc:description/>
  <dc:language>en-US</dc:language>
  <cp:lastModifiedBy>jcameron</cp:lastModifiedBy>
  <dcterms:modified xsi:type="dcterms:W3CDTF">2013-04-11T14:59:16Z</dcterms:modified>
  <cp:revision>92</cp:revision>
  <dc:subject/>
  <dc:title>Substances, Compounds &amp; Mixt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